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6A1B-15FC-4430-9B6E-4FD0373304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9C9C-A804-457A-81C1-2AA27961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0F5AC8-3763-4852-A20F-7ECADC0A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07A81E-040E-4371-A601-4966FE8D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4AB643-A125-436C-9BEE-37B70E49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613915-FF72-41D5-BA6E-5A8D99B7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6C242D-8640-4AFE-AD89-1088DCFA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D7209A-1FD0-47E9-A35F-4B6424D2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14AB56-D53E-4F35-9AA3-F1059BC3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19F860-6460-48E0-8AA4-187BF865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C79A91-3A76-4448-AEB9-80FF5A9CCB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C58C1-B3A0-4195-8EDE-074E3CF03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7DD1-ACBE-410D-93F0-A9A71324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0E4BB-F544-43AB-BD57-082D64CE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3F51C-A066-41ED-A97F-7C150B64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B426D-1D0D-4034-99FC-F6DA47A3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C4A38-E1CD-4B4F-8443-644EBB2F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5A35-B6D0-4F66-98A0-D2D1F92A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DDC48-8876-416F-B4BD-0A6838CD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AA871-1654-4EE0-A06D-CF436D99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3FAD3-0B13-4AAD-9FA0-FB6C3FC0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75B24-3E04-4A54-BA39-33A5407C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F6F37-6FDB-4DBF-85A2-82063E8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C501-1C29-42AF-834B-CD4C6E6063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161F9-0358-4B4B-967F-97A489B8A5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4F67BB-B2A9-4DC9-88AC-D35783A71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EB78A-E311-42DD-B00A-23799D9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3C40B1-9C34-405C-B410-7116F97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3D9E36-222A-4193-BF93-E04745AC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BEBAF-08FE-42CB-9607-DBCE2AB5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0B104B-1AD7-49AB-8FC5-258B996F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D3D1A-9512-4202-A1C2-038E93CA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5C698-AA00-4952-A6BD-504C9C7C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B6D8F5-FBA0-4818-B4D4-05192AA1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F1EA6-25F2-41B4-8601-E49CF806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4A3A0-B400-42A3-A661-EEDAD433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BF796-3730-480D-85E3-9418D0A3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4857E8-0247-4429-8859-6115444B0E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51FB8-38E0-4CEB-96DC-FBE30AA5F6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0F2F8-C806-4839-AB0F-076064F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D51B7-06B9-45EF-B02F-FBA83DAD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AA8F6-2BC7-4354-8E9F-95AB2B3A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2ADEB-A438-41A3-8F93-06EA06D1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C9E97-3C26-4C7E-9D7D-27E6C13D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17FE6-2074-416C-9C2C-5D07D429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1AE05-CC4F-43D3-B89F-A1ABC517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333D2-BA75-425E-A7DD-79820AE4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66A96-5744-466C-832F-4D9444C1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FE3D9-D60C-495A-8451-D441F588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EF179-6CBC-4BAC-8A30-30195090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137DC-01CB-4CDD-A378-B399064534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8ED81-1D3D-42EB-812F-D8C0BCB62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C3DA3-ED80-4A2F-AC2B-94B10F88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C5AB5-5143-45F3-9938-CAB89690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3DF8E-CFDD-497C-905E-7DD550A8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B14AB-1ACC-4039-AC61-15CD710C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4AF83-56CF-4B11-856D-15F0A7D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3F741-E061-49C4-8A2B-E76E9252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EA923-8963-44EF-AB2F-2060F42B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0057E-80B4-4C38-8193-12298D1D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9B4C4-4F1B-4B4C-A27A-3EB53B36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4D51D-40FB-4881-96B9-D31118B5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B1C50-433A-4879-9FE9-DF58E27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2698D-B059-4FA6-8197-AFCF2186DD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2D5F3-691F-4186-AAFF-B9C3630B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87CD7-7F15-4DFF-870F-AA662A55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72420-A750-40FD-A36A-CD0EDC23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752F4-EB52-4032-87EF-2602AADA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C1F27-97E8-4AE6-B085-2EA558BB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533ED-399D-4F43-949C-7119939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1FA4D-9B81-45A4-8A97-402B4603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8B43C-1B8C-4D8B-A3D0-40B743AA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D765D-D1C6-4504-A93D-FC2FB83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73F90-1128-4E37-99A3-97D0B8B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34EDB-0EB7-4E6B-98A8-29015D8D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A345A-9AFB-4A18-8C47-F105604E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E8433-3DEE-43C9-9597-453EE7CD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11C4E-F324-4DEF-833B-D8D4B89B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C89A1-9545-46BF-81D9-44A865F3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75B43-2CCF-484D-9FF5-56ABC8AB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C7647-D45C-477E-8E50-1D30800C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50219-299E-4A8D-8168-34A77FD8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E70D5-94D1-49EA-9FFA-73F79564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AA8AF-2D47-43DE-85CC-0B0474A7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7A828-A4A4-4AC0-BB19-5327838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69EB6-25D7-42EC-97A4-30929ED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43D9F-2CD3-44A9-A86C-F59BC80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DEBDF-EDEC-4257-A4D7-CC1F350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BF286-B08E-4B7A-9283-620E154B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A6D58-46D8-4D70-8D0C-7046B50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3BD71-A2EB-4F74-8B6E-08B29027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5287B-734E-4BCC-B0DC-09E79480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92C7D-7462-4B41-9CC5-4B79B5C0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5BA76-29AC-480B-A4A4-26721385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A96AE-7138-43C1-A59B-165750FC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A6434-7BC1-4DF3-8995-19CB95D9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46E72-9281-427C-9EF1-FF7DCD01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A9ACC-F01C-4388-8F3D-767C3F9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94161-C43F-44CE-8D17-F6F872D0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FE8BD-1A7A-44DB-8234-BBCB0CCC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3B953-2F76-48B0-9DB2-F7871989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2577B-2CE4-462F-A04D-F75BDE3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9BE84-358C-4235-BF3D-BDCA744F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95D33-6F9E-4CFE-882E-4B63D6D1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8DBE7-228A-40DA-9054-C79A0370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E9EC7-317B-45B9-9973-4FD7B80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F3BDD-7CE1-48AF-B9EA-925FDB02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BA990-82D8-4695-992E-684A5919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83B08-534F-423F-87C7-E04FECAF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506E9-159A-484D-A8A0-87F5527E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A72A2-15D3-411A-97D8-9CE9219A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7E2B-5CDD-43F9-A45D-CD0B891A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DCB8D-FCDF-42B2-A969-3EB065F8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0F3AF-70D1-42C8-B969-D114A8BF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E25CF-113A-4EF2-BDD1-C1CB4C5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DA480-06C4-4EDC-A402-BFD4D918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9B39D-8B01-402A-AD85-1D542873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CA083-2247-47F8-8540-54296A18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B7BFC-79AF-43D1-A92E-97CCBC4A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0B542-2CEB-41E0-9459-4C92E2B0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C7B56-CA05-4264-B600-D6685574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3B668-84E4-4E43-8C9E-FC8B8433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05073-086A-4C6D-994D-45D1520A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96356-6195-4071-A9BD-DE95B9AA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654E3-8C52-4891-A916-4301904F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CED25-CF3B-4ADE-952B-FDB9BDE9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68436-EEF5-44CC-92DF-E769482D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614C4-8895-43B0-A8D9-6F280776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E2442-2663-4169-92FD-360E22D3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6A486-D895-4927-AE62-D6E8BFAD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CBE10-565E-4324-9B7B-8AF55C1D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CE9C2-090D-450F-9EA9-AEBC0195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79180-CEAD-4C83-9DE3-37BA6752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095D5-F550-45CB-968A-27FE9149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3D271-E763-44DB-8B9B-B69D6FD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05631-4C36-48AC-97F2-0A5B23FE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B651A-B3B0-4BCE-976A-79C50B85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61E26-4952-4563-8F67-D620E088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54EDA-2CA5-465A-BB21-662CB7F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16414-A515-4AED-9D1E-14928B7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EFFD8-9D71-4B05-ADC9-6F30FBFB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2E39B-4E3C-47AF-9219-7D60131B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1E990-3424-44B7-BEAF-C1E59A7F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3DD62-C069-4966-B92E-E1EFF3AF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DCA39-A821-4586-8640-F55B57F5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044C0-4094-42EA-AEC6-17856449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A1979-6122-4B67-8074-17CD7461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57D2B-E111-4634-BAB4-A6170279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69254-BBE1-4573-B350-F08B4766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D5D11-75F0-409D-A06D-2FC8CA79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257EB-7D6D-434A-8D27-812D5A37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B1B05-8DB9-4B2B-BD8F-8BBE9963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5EDCC-727F-4202-9FB8-7318913C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DC076-372A-4157-BEF0-1B6C8C2C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7A189-B9BC-4B77-98E6-C439CC62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EA42B-109D-40C6-853C-A916E241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4E0E6-CD23-4D41-8351-C0708789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C3E75-ABB8-4CC9-BAB5-6BABA1DA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8372C-78E1-493B-9010-5E713E9A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2943B-D31E-4002-BEF5-D28213B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EB1A5-7D24-43C6-924A-B05AD6F8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49615-93C2-4338-88BF-7ADBF28D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A1154-28DE-4B9D-9853-B26A8F02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3E796-A54C-4FB5-BD88-4D410F97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12D8F9-B712-4993-AB28-1F5DD7A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181C5-021C-436A-974B-167F78C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DF62B-C675-46B1-A1B0-CB720D93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2DE7A7-03F3-41DB-9D46-057FE8B2DD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CCD4A-9630-4B16-A716-2E95E731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9B621-1E0A-4E69-AA2E-D8B0433B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8E86E-E2B4-4431-9E22-7E6E8E4E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D1E86-BD2D-4012-A650-76A0AF34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C131E-8AC0-4C8B-BAAD-0672EB71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26BC3-EF50-4EE2-92D0-EB6FD8B1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7805B-F07F-4E02-9BCA-AEDCA5AA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D825E-FF34-4329-B3C2-D976B775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21FD3B-B3BD-40AB-93BD-C3BE3272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79CA1-1DF1-4166-9570-24D84190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C312B-F8C3-433C-B01B-9492ACAB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9E55EC-5B28-4B1F-A9A4-2C6A240D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887FE-CCF0-4CA1-B8C2-2A3E629C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5749D-E53F-4B54-A0DB-1A0E3B7F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CEBAE-F2E6-458F-8BB3-324D3BD8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D2B620-0844-468F-BCFB-7582FC10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DDE8E6-13B6-46C2-9690-BF339024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16EE5-E41F-40B7-A283-5E381F38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50F6A-54AB-485E-9846-2F26126D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6D298-5F1F-420F-A4C2-E679D241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4AAE14-8AE1-42E7-B742-92CFB8FC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397CE-E995-407F-8041-F0533A52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53709-1BB2-43AC-ADEB-C2990BB0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5A755-A1A3-4B51-B5F0-E3FB079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7B871-5D06-4246-AF1C-975CD18C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950A53-5266-4136-BF14-19502859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A88AD7-ADAC-431E-8627-81B68CEA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49962-E821-4999-9FA6-ED72942B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54B93-73E6-4548-AFF4-BA798071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582C6-A322-4DA5-B38B-44FCEDCA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F80027-267F-4B4F-B8EF-D5E04CBF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EF5762-7167-439F-BE3B-E69C5241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EC18E-3D78-4585-B920-F105B69B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E44652-8C0E-4A51-B8CD-17DBD8CD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3E50B-A71A-47C6-926A-B3925CBA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E4B63-8855-4EF5-A528-5CA54D68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88ABB-01DE-4149-8BA2-DC62F02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6E9612-3F98-43CE-9475-AD7F5A02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7C7C75-8764-439E-AACA-86A2F3A6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FE518-D7F8-40ED-9D1A-008FFD95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847CE-C976-4205-87FF-A692F974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F42B8-B47D-4E77-BE96-CCB2DAD6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C42F44-FC48-4D48-A622-DE34C6F0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18C2-D895-4E59-B0D8-C2A87BAC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70D34-997F-4DDD-ACFE-023F602D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9BF04-320B-4AD0-B904-0FCAC4D6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41966-E74B-4773-A8CB-41EB52C5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D684B-CB31-48EE-8BF5-2FFCB07A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25506-7BF3-48BD-B92B-449444C2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11282-DF1E-467E-89FC-75461AA9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26542-082A-4592-9FF3-65B9A9A24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345C-3984-47D4-800E-2AC0815641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69E6-DAF8-4FD7-9631-18E59048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AC2C3-5379-407A-9A14-ECD4162D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2276-9451-4B48-A0A8-FA6E6C1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95D93-C489-40B9-A491-4BD5C58A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9B6B-192F-490E-AE4D-FE9806E0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0AEF-CEE9-44F3-8D22-99755524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08FEC-515E-42BC-85EA-BC27E517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6F80-9839-40B5-B69F-D0345E18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1F20-F071-4FFC-9681-A574FB65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EFE0-9627-468E-9BFC-7A5DAFDA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BFB9-B1A7-4F93-9DB2-8C10964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097D-CC3E-4C31-AAF0-EFD8FAE730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6E642-FA50-477F-B23B-E0A9BC91F3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A009-5C2E-4548-915B-BE374CA8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AEF14-DA1A-4EA0-A4FE-B4D8A31A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3D483-AA32-4385-B64C-7A723462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7174B-DE5F-45F9-95D6-376DD6F7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00F5E9-4068-4434-9B7C-18BEA912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17F13-69A8-421C-A792-B7F7492F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5A5AC-3426-46A3-B255-0131A06D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33206-5328-4840-9BCC-B45CFBED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59D0B-FACE-468C-A31D-837B5FCC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B52F9-9DA4-4B73-BBC4-340552C8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63BA38-9521-40B2-8ECD-917EC09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D5B2-D817-4104-8685-EE7585A5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C6616-0E47-4B2E-A242-2D6D221374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3CFA33-E749-4B1D-A90D-E8149FDE6B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0C4AC5-F4E6-4FA3-A45A-9BE0D883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12F121-1D96-402D-BFA3-73E7001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65B60A-7986-458D-B1B4-1F645BBB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25C22-1400-4620-996B-665C3C99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BD17FB-4588-422C-8A55-73BD3C62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BCB151-D369-4193-B747-D20A00D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74B1E-23A4-44C3-9FE4-74C3901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164D26-AA1D-4F61-906D-155DFF81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EF82-191D-4D63-94CD-1D3A588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41410A-C792-4FC0-9E75-6CA5CF8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A0A978-1C5C-4A83-AD63-726F7E60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A99DEC-FD8B-412A-AAB5-B6627BEA10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893B-C1B3-4408-B575-3585843D8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5B281-78C3-408E-8879-21524635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82DC7-5194-474B-8A68-88468E2C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C0493-34A1-421B-B656-B1A27A2A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B6440-B59E-4AFA-A3C1-EBB4BDE8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E721-0249-4710-A08B-351CAA3B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0D548-6927-4A44-BEEF-F0B12999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F6DC-EB89-41DD-B334-5BEC3A17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62E34-672C-4C8A-89ED-004A6C38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AF1F-79B0-4319-82B3-E1B83848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7E942-4AD9-4008-86DF-32F41CF0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E017E-52F1-4A5A-B9B2-D9EA400B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65FC2-0FE6-4CBE-851E-69DCDC7A7B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A6456-58AD-4FC9-B86B-687FC16FF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FE1D4-0B78-4F00-A490-3C171CFA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A53F8-A1C2-45B7-A430-579946BB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080D3-11BD-4E27-8693-90A081B7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7A2F0-46AE-4284-A682-FD35DDA1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ED3A-2FC1-49BB-91D5-19BC2194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9F05F-D0D3-4AA6-9C3E-554587F7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7CD13-2FC1-438D-81D5-C288C085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94409-C1B1-479D-8862-60BC8DB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5DA16-27C0-4542-BBD0-9673E73E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60389-7738-473D-9128-26117A56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5BD05-155E-4163-BF2A-244A273B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FDF43-C2C6-4F04-A52D-6B3E4A58D8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233EC4-5579-4F63-9986-607D611B2A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9733CC-A9C9-4FA9-B6D0-B185A7C9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4EE20C-E3B1-4A4C-8F68-A013162F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79B0-BE70-45B5-BAEC-F4F1311142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8F84-FA5C-4BC2-A6D7-56153ABD6D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D8B9-EE8B-4A6A-A7B7-3D288053CA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73D8-9C6A-4AF2-8AD5-935B72B96A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2C12-F03B-4F3B-B1D0-883791D8AB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A5D2-56B5-4A3A-BD75-9765E8E9E7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19DC-E142-454D-B608-A0E5F440BF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E725-D8A1-4EE0-9F8F-F162E99067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1563-8359-4646-A2A2-806E39FA88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2EEE-31C5-4F1F-98A8-4F529A1E3A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9E3-2887-45F4-84F0-0FB5B0931F2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F3F7-E655-41D3-8528-632EC7CEBE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149A-6FA2-41AE-8530-6E76789C1C1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6941-953F-451D-81DE-E486309CE3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289F-69F7-4920-94C8-98E79E24C1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78F2-C162-4A37-BB1B-776839B96B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AD43-E683-464F-B3D2-2559DFD158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0E7-5D4F-4404-820F-95F2BF8BF5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424D-471B-478E-A045-71E4BF15A7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2E30-5896-43AB-A055-F976E95E37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DBD5-D82D-419D-A530-995C9C395F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8041-CB83-4237-ADB2-B7EA4833647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5971-9730-4C08-ACEF-99026E7F4E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BF41-1853-495B-B5CA-DB5A337E04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868480" y="270360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2327400" y="2652840"/>
            <a:ext cx="604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分 米 的 认 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3449520" cy="360"/>
            <a:chOff x="2284560" y="2448000"/>
            <a:chExt cx="3449520" cy="36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34495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344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231840" y="174456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 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56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58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6" name="文本框 107"/>
          <p:cNvSpPr/>
          <p:nvPr/>
        </p:nvSpPr>
        <p:spPr>
          <a:xfrm>
            <a:off x="279360" y="1071720"/>
            <a:ext cx="86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小明的身高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，爸爸的身高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。         爸爸比小明高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文本框 1"/>
          <p:cNvSpPr/>
          <p:nvPr/>
        </p:nvSpPr>
        <p:spPr>
          <a:xfrm>
            <a:off x="1668600" y="2516040"/>
            <a:ext cx="3342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0-140=4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文本框 3"/>
          <p:cNvSpPr/>
          <p:nvPr/>
        </p:nvSpPr>
        <p:spPr>
          <a:xfrm>
            <a:off x="1138320" y="3340080"/>
            <a:ext cx="52909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爸爸比小明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70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72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0" name="文本框 107"/>
          <p:cNvSpPr/>
          <p:nvPr/>
        </p:nvSpPr>
        <p:spPr>
          <a:xfrm>
            <a:off x="179280" y="955800"/>
            <a:ext cx="86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一条绳子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，将它剪成每段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长的小段，可以剪成几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1"/>
          <p:cNvSpPr/>
          <p:nvPr/>
        </p:nvSpPr>
        <p:spPr>
          <a:xfrm>
            <a:off x="2400480" y="2484360"/>
            <a:ext cx="259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文本框 3"/>
          <p:cNvSpPr/>
          <p:nvPr/>
        </p:nvSpPr>
        <p:spPr>
          <a:xfrm>
            <a:off x="2400480" y="3170160"/>
            <a:ext cx="23875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=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文本框 4"/>
          <p:cNvSpPr/>
          <p:nvPr/>
        </p:nvSpPr>
        <p:spPr>
          <a:xfrm>
            <a:off x="1811160" y="3844800"/>
            <a:ext cx="3187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可以剪成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文本框 1"/>
          <p:cNvSpPr/>
          <p:nvPr/>
        </p:nvSpPr>
        <p:spPr>
          <a:xfrm>
            <a:off x="996840" y="1185840"/>
            <a:ext cx="35434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毫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3"/>
          <p:cNvSpPr/>
          <p:nvPr/>
        </p:nvSpPr>
        <p:spPr>
          <a:xfrm>
            <a:off x="996840" y="2220840"/>
            <a:ext cx="35434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毫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4"/>
          <p:cNvSpPr/>
          <p:nvPr/>
        </p:nvSpPr>
        <p:spPr>
          <a:xfrm>
            <a:off x="996840" y="3171960"/>
            <a:ext cx="50482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毫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毫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5"/>
          <p:cNvSpPr/>
          <p:nvPr/>
        </p:nvSpPr>
        <p:spPr>
          <a:xfrm>
            <a:off x="876240" y="4299120"/>
            <a:ext cx="50482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 ）毫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6"/>
          <p:cNvSpPr/>
          <p:nvPr/>
        </p:nvSpPr>
        <p:spPr>
          <a:xfrm>
            <a:off x="2433600" y="1185840"/>
            <a:ext cx="66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7"/>
          <p:cNvSpPr/>
          <p:nvPr/>
        </p:nvSpPr>
        <p:spPr>
          <a:xfrm>
            <a:off x="2565360" y="2220840"/>
            <a:ext cx="82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8"/>
          <p:cNvSpPr/>
          <p:nvPr/>
        </p:nvSpPr>
        <p:spPr>
          <a:xfrm>
            <a:off x="3990960" y="3171960"/>
            <a:ext cx="6699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9"/>
          <p:cNvSpPr/>
          <p:nvPr/>
        </p:nvSpPr>
        <p:spPr>
          <a:xfrm>
            <a:off x="2746440" y="4299120"/>
            <a:ext cx="11142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8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20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8" name="八边形 1"/>
          <p:cNvSpPr/>
          <p:nvPr/>
        </p:nvSpPr>
        <p:spPr>
          <a:xfrm>
            <a:off x="324000" y="100476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3"/>
          <p:cNvSpPr/>
          <p:nvPr/>
        </p:nvSpPr>
        <p:spPr>
          <a:xfrm>
            <a:off x="1157400" y="746280"/>
            <a:ext cx="6286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70c0"/>
                </a:solidFill>
                <a:latin typeface="宋体"/>
                <a:ea typeface="宋体"/>
              </a:rPr>
              <a:t>量物体的长度有时也用分米（</a:t>
            </a:r>
            <a:r>
              <a:rPr b="0" lang="en-US" sz="2500" spc="-1" strike="noStrike">
                <a:solidFill>
                  <a:srgbClr val="0070c0"/>
                </a:solidFill>
                <a:latin typeface="宋体"/>
              </a:rPr>
              <a:t>dm</a:t>
            </a:r>
            <a:r>
              <a:rPr b="0" lang="zh-CN" sz="2500" spc="-1" strike="noStrike">
                <a:solidFill>
                  <a:srgbClr val="0070c0"/>
                </a:solidFill>
                <a:latin typeface="宋体"/>
                <a:ea typeface="宋体"/>
              </a:rPr>
              <a:t>）作单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5" descr="18"/>
          <p:cNvPicPr/>
          <p:nvPr/>
        </p:nvPicPr>
        <p:blipFill>
          <a:blip r:embed="rId8"/>
          <a:stretch/>
        </p:blipFill>
        <p:spPr>
          <a:xfrm>
            <a:off x="1262160" y="3311640"/>
            <a:ext cx="7245360" cy="714240"/>
          </a:xfrm>
          <a:prstGeom prst="rect">
            <a:avLst/>
          </a:prstGeom>
          <a:ln w="0">
            <a:noFill/>
          </a:ln>
        </p:spPr>
      </p:pic>
      <p:sp>
        <p:nvSpPr>
          <p:cNvPr id="1031" name="右大括号 5"/>
          <p:cNvSpPr/>
          <p:nvPr/>
        </p:nvSpPr>
        <p:spPr>
          <a:xfrm rot="16200000">
            <a:off x="4584600" y="50760"/>
            <a:ext cx="287280" cy="6377040"/>
          </a:xfrm>
          <a:custGeom>
            <a:avLst/>
            <a:gdLst>
              <a:gd name="textAreaLeft" fmla="*/ 0 w 287280"/>
              <a:gd name="textAreaRight" fmla="*/ 103680 w 287280"/>
              <a:gd name="textAreaTop" fmla="*/ 7560 h 6377040"/>
              <a:gd name="textAreaBottom" fmla="*/ 6369480 h 637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5"/>
                </a:cubicBezTo>
                <a:lnTo>
                  <a:pt x="10800" y="10715"/>
                </a:lnTo>
                <a:cubicBezTo>
                  <a:pt x="10800" y="10758"/>
                  <a:pt x="16200" y="10800"/>
                  <a:pt x="21600" y="10800"/>
                </a:cubicBezTo>
                <a:cubicBezTo>
                  <a:pt x="16200" y="10800"/>
                  <a:pt x="10800" y="10843"/>
                  <a:pt x="10800" y="10885"/>
                </a:cubicBezTo>
                <a:lnTo>
                  <a:pt x="10800" y="21515"/>
                </a:lnTo>
                <a:cubicBezTo>
                  <a:pt x="10800" y="2155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Group 91"/>
          <p:cNvGrpSpPr/>
          <p:nvPr/>
        </p:nvGrpSpPr>
        <p:grpSpPr>
          <a:xfrm>
            <a:off x="1539720" y="3341520"/>
            <a:ext cx="638280" cy="136440"/>
            <a:chOff x="1539720" y="3341520"/>
            <a:chExt cx="638280" cy="136440"/>
          </a:xfrm>
        </p:grpSpPr>
        <p:sp>
          <p:nvSpPr>
            <p:cNvPr id="1033" name="矩形 45"/>
            <p:cNvSpPr/>
            <p:nvPr/>
          </p:nvSpPr>
          <p:spPr>
            <a:xfrm flipH="1">
              <a:off x="154044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1539720" y="3341520"/>
              <a:ext cx="360" cy="136440"/>
              <a:chOff x="1539720" y="3341520"/>
              <a:chExt cx="360" cy="136440"/>
            </a:xfrm>
          </p:grpSpPr>
          <p:sp>
            <p:nvSpPr>
              <p:cNvPr id="1035" name="Line 84"/>
              <p:cNvSpPr/>
              <p:nvPr/>
            </p:nvSpPr>
            <p:spPr>
              <a:xfrm>
                <a:off x="153972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153972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2177640" y="3341520"/>
              <a:ext cx="360" cy="136440"/>
              <a:chOff x="2177640" y="3341520"/>
              <a:chExt cx="360" cy="136440"/>
            </a:xfrm>
          </p:grpSpPr>
          <p:sp>
            <p:nvSpPr>
              <p:cNvPr id="1038" name="Line 85"/>
              <p:cNvSpPr/>
              <p:nvPr/>
            </p:nvSpPr>
            <p:spPr>
              <a:xfrm>
                <a:off x="217764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 txBox="1"/>
              <p:nvPr/>
            </p:nvSpPr>
            <p:spPr>
              <a:xfrm>
                <a:off x="217764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92"/>
          <p:cNvGrpSpPr/>
          <p:nvPr/>
        </p:nvGrpSpPr>
        <p:grpSpPr>
          <a:xfrm>
            <a:off x="2181240" y="3341520"/>
            <a:ext cx="638280" cy="136440"/>
            <a:chOff x="2181240" y="3341520"/>
            <a:chExt cx="638280" cy="136440"/>
          </a:xfrm>
        </p:grpSpPr>
        <p:sp>
          <p:nvSpPr>
            <p:cNvPr id="1041" name="矩形 45"/>
            <p:cNvSpPr/>
            <p:nvPr/>
          </p:nvSpPr>
          <p:spPr>
            <a:xfrm flipH="1">
              <a:off x="218196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2181240" y="3341520"/>
              <a:ext cx="360" cy="136440"/>
              <a:chOff x="2181240" y="3341520"/>
              <a:chExt cx="360" cy="136440"/>
            </a:xfrm>
          </p:grpSpPr>
          <p:sp>
            <p:nvSpPr>
              <p:cNvPr id="1043" name="Line 94"/>
              <p:cNvSpPr/>
              <p:nvPr/>
            </p:nvSpPr>
            <p:spPr>
              <a:xfrm>
                <a:off x="218124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>
                <a:off x="218124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2819160" y="3341520"/>
              <a:ext cx="360" cy="136440"/>
              <a:chOff x="2819160" y="3341520"/>
              <a:chExt cx="360" cy="136440"/>
            </a:xfrm>
          </p:grpSpPr>
          <p:sp>
            <p:nvSpPr>
              <p:cNvPr id="1046" name="Line 95"/>
              <p:cNvSpPr/>
              <p:nvPr/>
            </p:nvSpPr>
            <p:spPr>
              <a:xfrm>
                <a:off x="281916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 txBox="1"/>
              <p:nvPr/>
            </p:nvSpPr>
            <p:spPr>
              <a:xfrm>
                <a:off x="281916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8" name="Group 100"/>
          <p:cNvGrpSpPr/>
          <p:nvPr/>
        </p:nvGrpSpPr>
        <p:grpSpPr>
          <a:xfrm>
            <a:off x="2819520" y="3341520"/>
            <a:ext cx="638280" cy="136440"/>
            <a:chOff x="2819520" y="3341520"/>
            <a:chExt cx="638280" cy="136440"/>
          </a:xfrm>
        </p:grpSpPr>
        <p:sp>
          <p:nvSpPr>
            <p:cNvPr id="1049" name="矩形 45"/>
            <p:cNvSpPr/>
            <p:nvPr/>
          </p:nvSpPr>
          <p:spPr>
            <a:xfrm flipH="1">
              <a:off x="282024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2819520" y="3341520"/>
              <a:ext cx="360" cy="136440"/>
              <a:chOff x="2819520" y="3341520"/>
              <a:chExt cx="360" cy="136440"/>
            </a:xfrm>
          </p:grpSpPr>
          <p:sp>
            <p:nvSpPr>
              <p:cNvPr id="1051" name="Line 102"/>
              <p:cNvSpPr/>
              <p:nvPr/>
            </p:nvSpPr>
            <p:spPr>
              <a:xfrm>
                <a:off x="281952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281952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3457440" y="3341520"/>
              <a:ext cx="360" cy="136440"/>
              <a:chOff x="3457440" y="3341520"/>
              <a:chExt cx="360" cy="136440"/>
            </a:xfrm>
          </p:grpSpPr>
          <p:sp>
            <p:nvSpPr>
              <p:cNvPr id="1054" name="Line 103"/>
              <p:cNvSpPr/>
              <p:nvPr/>
            </p:nvSpPr>
            <p:spPr>
              <a:xfrm>
                <a:off x="345744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345744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6" name="Group 104"/>
          <p:cNvGrpSpPr/>
          <p:nvPr/>
        </p:nvGrpSpPr>
        <p:grpSpPr>
          <a:xfrm>
            <a:off x="3457440" y="3341520"/>
            <a:ext cx="638280" cy="136440"/>
            <a:chOff x="3457440" y="3341520"/>
            <a:chExt cx="638280" cy="136440"/>
          </a:xfrm>
        </p:grpSpPr>
        <p:sp>
          <p:nvSpPr>
            <p:cNvPr id="1057" name="矩形 45"/>
            <p:cNvSpPr/>
            <p:nvPr/>
          </p:nvSpPr>
          <p:spPr>
            <a:xfrm flipH="1">
              <a:off x="345816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3457440" y="3341520"/>
              <a:ext cx="360" cy="136440"/>
              <a:chOff x="3457440" y="3341520"/>
              <a:chExt cx="360" cy="136440"/>
            </a:xfrm>
          </p:grpSpPr>
          <p:sp>
            <p:nvSpPr>
              <p:cNvPr id="1059" name="Line 106"/>
              <p:cNvSpPr/>
              <p:nvPr/>
            </p:nvSpPr>
            <p:spPr>
              <a:xfrm>
                <a:off x="345744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345744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4095360" y="3341520"/>
              <a:ext cx="360" cy="136440"/>
              <a:chOff x="4095360" y="3341520"/>
              <a:chExt cx="360" cy="136440"/>
            </a:xfrm>
          </p:grpSpPr>
          <p:sp>
            <p:nvSpPr>
              <p:cNvPr id="1062" name="Line 107"/>
              <p:cNvSpPr/>
              <p:nvPr/>
            </p:nvSpPr>
            <p:spPr>
              <a:xfrm>
                <a:off x="409536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>
                <a:off x="409536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4" name="Group 108"/>
          <p:cNvGrpSpPr/>
          <p:nvPr/>
        </p:nvGrpSpPr>
        <p:grpSpPr>
          <a:xfrm>
            <a:off x="4092480" y="3341520"/>
            <a:ext cx="638280" cy="136440"/>
            <a:chOff x="4092480" y="3341520"/>
            <a:chExt cx="638280" cy="136440"/>
          </a:xfrm>
        </p:grpSpPr>
        <p:sp>
          <p:nvSpPr>
            <p:cNvPr id="1065" name="矩形 45"/>
            <p:cNvSpPr/>
            <p:nvPr/>
          </p:nvSpPr>
          <p:spPr>
            <a:xfrm flipH="1">
              <a:off x="409320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4092480" y="3341520"/>
              <a:ext cx="360" cy="136440"/>
              <a:chOff x="4092480" y="3341520"/>
              <a:chExt cx="360" cy="136440"/>
            </a:xfrm>
          </p:grpSpPr>
          <p:sp>
            <p:nvSpPr>
              <p:cNvPr id="1067" name="Line 110"/>
              <p:cNvSpPr/>
              <p:nvPr/>
            </p:nvSpPr>
            <p:spPr>
              <a:xfrm>
                <a:off x="409248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 txBox="1"/>
              <p:nvPr/>
            </p:nvSpPr>
            <p:spPr>
              <a:xfrm>
                <a:off x="409248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4730400" y="3341520"/>
              <a:ext cx="360" cy="136440"/>
              <a:chOff x="4730400" y="3341520"/>
              <a:chExt cx="360" cy="136440"/>
            </a:xfrm>
          </p:grpSpPr>
          <p:sp>
            <p:nvSpPr>
              <p:cNvPr id="1070" name="Line 111"/>
              <p:cNvSpPr/>
              <p:nvPr/>
            </p:nvSpPr>
            <p:spPr>
              <a:xfrm>
                <a:off x="473040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 txBox="1"/>
              <p:nvPr/>
            </p:nvSpPr>
            <p:spPr>
              <a:xfrm>
                <a:off x="473040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Group 112"/>
          <p:cNvGrpSpPr/>
          <p:nvPr/>
        </p:nvGrpSpPr>
        <p:grpSpPr>
          <a:xfrm>
            <a:off x="4730760" y="3341520"/>
            <a:ext cx="638280" cy="136440"/>
            <a:chOff x="4730760" y="3341520"/>
            <a:chExt cx="638280" cy="136440"/>
          </a:xfrm>
        </p:grpSpPr>
        <p:sp>
          <p:nvSpPr>
            <p:cNvPr id="1073" name="矩形 45"/>
            <p:cNvSpPr/>
            <p:nvPr/>
          </p:nvSpPr>
          <p:spPr>
            <a:xfrm flipH="1">
              <a:off x="473148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4730760" y="3341520"/>
              <a:ext cx="360" cy="136440"/>
              <a:chOff x="4730760" y="3341520"/>
              <a:chExt cx="360" cy="136440"/>
            </a:xfrm>
          </p:grpSpPr>
          <p:sp>
            <p:nvSpPr>
              <p:cNvPr id="1075" name="Line 114"/>
              <p:cNvSpPr/>
              <p:nvPr/>
            </p:nvSpPr>
            <p:spPr>
              <a:xfrm>
                <a:off x="473076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 txBox="1"/>
              <p:nvPr/>
            </p:nvSpPr>
            <p:spPr>
              <a:xfrm>
                <a:off x="473076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5368680" y="3341520"/>
              <a:ext cx="360" cy="136440"/>
              <a:chOff x="5368680" y="3341520"/>
              <a:chExt cx="360" cy="136440"/>
            </a:xfrm>
          </p:grpSpPr>
          <p:sp>
            <p:nvSpPr>
              <p:cNvPr id="1078" name="Line 115"/>
              <p:cNvSpPr/>
              <p:nvPr/>
            </p:nvSpPr>
            <p:spPr>
              <a:xfrm>
                <a:off x="536868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 txBox="1"/>
              <p:nvPr/>
            </p:nvSpPr>
            <p:spPr>
              <a:xfrm>
                <a:off x="536868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0" name="Group 116"/>
          <p:cNvGrpSpPr/>
          <p:nvPr/>
        </p:nvGrpSpPr>
        <p:grpSpPr>
          <a:xfrm>
            <a:off x="5365800" y="3341520"/>
            <a:ext cx="638280" cy="136440"/>
            <a:chOff x="5365800" y="3341520"/>
            <a:chExt cx="638280" cy="136440"/>
          </a:xfrm>
        </p:grpSpPr>
        <p:sp>
          <p:nvSpPr>
            <p:cNvPr id="1081" name="矩形 45"/>
            <p:cNvSpPr/>
            <p:nvPr/>
          </p:nvSpPr>
          <p:spPr>
            <a:xfrm flipH="1">
              <a:off x="536652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5365800" y="3341520"/>
              <a:ext cx="360" cy="136440"/>
              <a:chOff x="5365800" y="3341520"/>
              <a:chExt cx="360" cy="136440"/>
            </a:xfrm>
          </p:grpSpPr>
          <p:sp>
            <p:nvSpPr>
              <p:cNvPr id="1083" name="Line 118"/>
              <p:cNvSpPr/>
              <p:nvPr/>
            </p:nvSpPr>
            <p:spPr>
              <a:xfrm>
                <a:off x="536580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 txBox="1"/>
              <p:nvPr/>
            </p:nvSpPr>
            <p:spPr>
              <a:xfrm>
                <a:off x="536580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003720" y="3341520"/>
              <a:ext cx="360" cy="136440"/>
              <a:chOff x="6003720" y="3341520"/>
              <a:chExt cx="360" cy="136440"/>
            </a:xfrm>
          </p:grpSpPr>
          <p:sp>
            <p:nvSpPr>
              <p:cNvPr id="1086" name="Line 119"/>
              <p:cNvSpPr/>
              <p:nvPr/>
            </p:nvSpPr>
            <p:spPr>
              <a:xfrm>
                <a:off x="600372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 txBox="1"/>
              <p:nvPr/>
            </p:nvSpPr>
            <p:spPr>
              <a:xfrm>
                <a:off x="600372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8" name="Group 120"/>
          <p:cNvGrpSpPr/>
          <p:nvPr/>
        </p:nvGrpSpPr>
        <p:grpSpPr>
          <a:xfrm>
            <a:off x="6004080" y="3341520"/>
            <a:ext cx="638280" cy="136440"/>
            <a:chOff x="6004080" y="3341520"/>
            <a:chExt cx="638280" cy="136440"/>
          </a:xfrm>
        </p:grpSpPr>
        <p:sp>
          <p:nvSpPr>
            <p:cNvPr id="1089" name="矩形 45"/>
            <p:cNvSpPr/>
            <p:nvPr/>
          </p:nvSpPr>
          <p:spPr>
            <a:xfrm flipH="1">
              <a:off x="600480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6004080" y="3341520"/>
              <a:ext cx="360" cy="136440"/>
              <a:chOff x="6004080" y="3341520"/>
              <a:chExt cx="360" cy="136440"/>
            </a:xfrm>
          </p:grpSpPr>
          <p:sp>
            <p:nvSpPr>
              <p:cNvPr id="1091" name="Line 122"/>
              <p:cNvSpPr/>
              <p:nvPr/>
            </p:nvSpPr>
            <p:spPr>
              <a:xfrm>
                <a:off x="600408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>
                <a:off x="600408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6642000" y="3341520"/>
              <a:ext cx="360" cy="136440"/>
              <a:chOff x="6642000" y="3341520"/>
              <a:chExt cx="360" cy="136440"/>
            </a:xfrm>
          </p:grpSpPr>
          <p:sp>
            <p:nvSpPr>
              <p:cNvPr id="1094" name="Line 123"/>
              <p:cNvSpPr/>
              <p:nvPr/>
            </p:nvSpPr>
            <p:spPr>
              <a:xfrm>
                <a:off x="664200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>
                <a:off x="664200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6" name="Group 124"/>
          <p:cNvGrpSpPr/>
          <p:nvPr/>
        </p:nvGrpSpPr>
        <p:grpSpPr>
          <a:xfrm>
            <a:off x="6643800" y="3341520"/>
            <a:ext cx="638280" cy="136440"/>
            <a:chOff x="6643800" y="3341520"/>
            <a:chExt cx="638280" cy="136440"/>
          </a:xfrm>
        </p:grpSpPr>
        <p:sp>
          <p:nvSpPr>
            <p:cNvPr id="1097" name="矩形 45"/>
            <p:cNvSpPr/>
            <p:nvPr/>
          </p:nvSpPr>
          <p:spPr>
            <a:xfrm flipH="1">
              <a:off x="664452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6643800" y="3341520"/>
              <a:ext cx="360" cy="136440"/>
              <a:chOff x="6643800" y="3341520"/>
              <a:chExt cx="360" cy="136440"/>
            </a:xfrm>
          </p:grpSpPr>
          <p:sp>
            <p:nvSpPr>
              <p:cNvPr id="1099" name="Line 126"/>
              <p:cNvSpPr/>
              <p:nvPr/>
            </p:nvSpPr>
            <p:spPr>
              <a:xfrm>
                <a:off x="664380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 txBox="1"/>
              <p:nvPr/>
            </p:nvSpPr>
            <p:spPr>
              <a:xfrm>
                <a:off x="664380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7281720" y="3341520"/>
              <a:ext cx="360" cy="136440"/>
              <a:chOff x="7281720" y="3341520"/>
              <a:chExt cx="360" cy="136440"/>
            </a:xfrm>
          </p:grpSpPr>
          <p:sp>
            <p:nvSpPr>
              <p:cNvPr id="1102" name="Line 127"/>
              <p:cNvSpPr/>
              <p:nvPr/>
            </p:nvSpPr>
            <p:spPr>
              <a:xfrm>
                <a:off x="728172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>
                <a:off x="728172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4" name="Group 128"/>
          <p:cNvGrpSpPr/>
          <p:nvPr/>
        </p:nvGrpSpPr>
        <p:grpSpPr>
          <a:xfrm>
            <a:off x="7283520" y="3341520"/>
            <a:ext cx="638280" cy="136440"/>
            <a:chOff x="7283520" y="3341520"/>
            <a:chExt cx="638280" cy="136440"/>
          </a:xfrm>
        </p:grpSpPr>
        <p:sp>
          <p:nvSpPr>
            <p:cNvPr id="1105" name="矩形 51"/>
            <p:cNvSpPr/>
            <p:nvPr/>
          </p:nvSpPr>
          <p:spPr>
            <a:xfrm flipH="1">
              <a:off x="7284240" y="334764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7283520" y="3341520"/>
              <a:ext cx="360" cy="136440"/>
              <a:chOff x="7283520" y="3341520"/>
              <a:chExt cx="360" cy="136440"/>
            </a:xfrm>
          </p:grpSpPr>
          <p:sp>
            <p:nvSpPr>
              <p:cNvPr id="1107" name="Line 130"/>
              <p:cNvSpPr/>
              <p:nvPr/>
            </p:nvSpPr>
            <p:spPr>
              <a:xfrm>
                <a:off x="728352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 txBox="1"/>
              <p:nvPr/>
            </p:nvSpPr>
            <p:spPr>
              <a:xfrm>
                <a:off x="728352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7921440" y="3341520"/>
              <a:ext cx="360" cy="136440"/>
              <a:chOff x="7921440" y="3341520"/>
              <a:chExt cx="360" cy="136440"/>
            </a:xfrm>
          </p:grpSpPr>
          <p:sp>
            <p:nvSpPr>
              <p:cNvPr id="1110" name="Line 131"/>
              <p:cNvSpPr/>
              <p:nvPr/>
            </p:nvSpPr>
            <p:spPr>
              <a:xfrm>
                <a:off x="7921440" y="3341520"/>
                <a:ext cx="0" cy="136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 txBox="1"/>
              <p:nvPr/>
            </p:nvSpPr>
            <p:spPr>
              <a:xfrm>
                <a:off x="7921440" y="334152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2" name="TextBox 61"/>
          <p:cNvSpPr/>
          <p:nvPr/>
        </p:nvSpPr>
        <p:spPr>
          <a:xfrm>
            <a:off x="3363840" y="445464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分米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62"/>
          <p:cNvSpPr/>
          <p:nvPr/>
        </p:nvSpPr>
        <p:spPr>
          <a:xfrm>
            <a:off x="4221000" y="2525760"/>
            <a:ext cx="11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63"/>
          <p:cNvSpPr/>
          <p:nvPr/>
        </p:nvSpPr>
        <p:spPr>
          <a:xfrm>
            <a:off x="765000" y="1522440"/>
            <a:ext cx="8056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拿一把米尺，指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的长度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6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18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26" name="Picture 71" descr="20"/>
          <p:cNvPicPr/>
          <p:nvPr/>
        </p:nvPicPr>
        <p:blipFill>
          <a:blip r:embed="rId8"/>
          <a:stretch/>
        </p:blipFill>
        <p:spPr>
          <a:xfrm>
            <a:off x="4908600" y="2770200"/>
            <a:ext cx="2851200" cy="22860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70" descr="19"/>
          <p:cNvPicPr/>
          <p:nvPr/>
        </p:nvPicPr>
        <p:blipFill>
          <a:blip r:embed="rId9"/>
          <a:stretch/>
        </p:blipFill>
        <p:spPr>
          <a:xfrm>
            <a:off x="1571760" y="2790720"/>
            <a:ext cx="2211120" cy="226548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22"/>
          <p:cNvSpPr/>
          <p:nvPr/>
        </p:nvSpPr>
        <p:spPr>
          <a:xfrm>
            <a:off x="2332080" y="5056200"/>
            <a:ext cx="4143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想一想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等于多少分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3"/>
          <p:cNvSpPr/>
          <p:nvPr/>
        </p:nvSpPr>
        <p:spPr>
          <a:xfrm>
            <a:off x="3019320" y="561816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分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组合 8"/>
          <p:cNvGrpSpPr/>
          <p:nvPr/>
        </p:nvGrpSpPr>
        <p:grpSpPr>
          <a:xfrm>
            <a:off x="1114560" y="841320"/>
            <a:ext cx="6405480" cy="825480"/>
            <a:chOff x="1114560" y="841320"/>
            <a:chExt cx="6405480" cy="825480"/>
          </a:xfrm>
        </p:grpSpPr>
        <p:sp>
          <p:nvSpPr>
            <p:cNvPr id="1131" name="AutoShape 27"/>
            <p:cNvSpPr/>
            <p:nvPr/>
          </p:nvSpPr>
          <p:spPr>
            <a:xfrm>
              <a:off x="2333520" y="841320"/>
              <a:ext cx="5186520" cy="662040"/>
            </a:xfrm>
            <a:prstGeom prst="wedgeRoundRectCallout">
              <a:avLst>
                <a:gd name="adj1" fmla="val -54425"/>
                <a:gd name="adj2" fmla="val 392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能用手势表示出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米的长度吗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7" descr="6)5][}VZ%@FXJ)FA]TI76$O"/>
            <p:cNvPicPr/>
            <p:nvPr/>
          </p:nvPicPr>
          <p:blipFill>
            <a:blip r:embed="rId10"/>
            <a:stretch/>
          </p:blipFill>
          <p:spPr>
            <a:xfrm>
              <a:off x="1114560" y="841320"/>
              <a:ext cx="774360" cy="82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6"/>
          <p:cNvGrpSpPr/>
          <p:nvPr/>
        </p:nvGrpSpPr>
        <p:grpSpPr>
          <a:xfrm>
            <a:off x="903240" y="1873080"/>
            <a:ext cx="3354120" cy="847800"/>
            <a:chOff x="903240" y="1873080"/>
            <a:chExt cx="3354120" cy="847800"/>
          </a:xfrm>
        </p:grpSpPr>
        <p:sp>
          <p:nvSpPr>
            <p:cNvPr id="1134" name="AutoShape 27"/>
            <p:cNvSpPr/>
            <p:nvPr/>
          </p:nvSpPr>
          <p:spPr>
            <a:xfrm>
              <a:off x="1887840" y="1873080"/>
              <a:ext cx="2369520" cy="56700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是这样比的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5" name="图片 4" descr="]@P`{@U$K{A7A$9804YYMFT"/>
            <p:cNvPicPr/>
            <p:nvPr/>
          </p:nvPicPr>
          <p:blipFill>
            <a:blip r:embed="rId11"/>
            <a:stretch/>
          </p:blipFill>
          <p:spPr>
            <a:xfrm>
              <a:off x="903240" y="1873080"/>
              <a:ext cx="66780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6" name="组合 12"/>
          <p:cNvGrpSpPr/>
          <p:nvPr/>
        </p:nvGrpSpPr>
        <p:grpSpPr>
          <a:xfrm>
            <a:off x="4908600" y="1778040"/>
            <a:ext cx="3279600" cy="1012680"/>
            <a:chOff x="4908600" y="1778040"/>
            <a:chExt cx="3279600" cy="1012680"/>
          </a:xfrm>
        </p:grpSpPr>
        <p:sp>
          <p:nvSpPr>
            <p:cNvPr id="1137" name="AutoShape 27"/>
            <p:cNvSpPr/>
            <p:nvPr/>
          </p:nvSpPr>
          <p:spPr>
            <a:xfrm>
              <a:off x="4908600" y="1778040"/>
              <a:ext cx="2244240" cy="63972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是这样比的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8" name="图片 5" descr="_4`F[E$PX4I}_~SSZVJ7V4J"/>
            <p:cNvPicPr/>
            <p:nvPr/>
          </p:nvPicPr>
          <p:blipFill>
            <a:blip r:embed="rId12"/>
            <a:stretch/>
          </p:blipFill>
          <p:spPr>
            <a:xfrm>
              <a:off x="7520400" y="1778040"/>
              <a:ext cx="667800" cy="1012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0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42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0" name="八边形 1"/>
          <p:cNvSpPr/>
          <p:nvPr/>
        </p:nvSpPr>
        <p:spPr>
          <a:xfrm>
            <a:off x="324000" y="100476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5"/>
          <p:cNvSpPr/>
          <p:nvPr/>
        </p:nvSpPr>
        <p:spPr>
          <a:xfrm>
            <a:off x="3830760" y="866880"/>
            <a:ext cx="3768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6"/>
          <p:cNvSpPr/>
          <p:nvPr/>
        </p:nvSpPr>
        <p:spPr>
          <a:xfrm>
            <a:off x="3244680" y="1603440"/>
            <a:ext cx="4500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想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毫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是（    ）个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毫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7"/>
          <p:cNvSpPr/>
          <p:nvPr/>
        </p:nvSpPr>
        <p:spPr>
          <a:xfrm>
            <a:off x="4435560" y="3427560"/>
            <a:ext cx="4056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）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8"/>
          <p:cNvSpPr/>
          <p:nvPr/>
        </p:nvSpPr>
        <p:spPr>
          <a:xfrm>
            <a:off x="3784680" y="4068720"/>
            <a:ext cx="53578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想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米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里面有（    ）个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Picture 2" descr="D:\我的文档-桌面-收藏夹\桌面\1.tif"/>
          <p:cNvPicPr/>
          <p:nvPr/>
        </p:nvPicPr>
        <p:blipFill>
          <a:blip r:embed="rId8"/>
          <a:srcRect l="46153" t="3340" r="0" b="0"/>
          <a:stretch/>
        </p:blipFill>
        <p:spPr>
          <a:xfrm>
            <a:off x="357120" y="3222720"/>
            <a:ext cx="3335400" cy="2062080"/>
          </a:xfrm>
          <a:prstGeom prst="rect">
            <a:avLst/>
          </a:prstGeom>
          <a:ln w="0">
            <a:noFill/>
          </a:ln>
        </p:spPr>
      </p:pic>
      <p:sp>
        <p:nvSpPr>
          <p:cNvPr id="1156" name="TextBox 10"/>
          <p:cNvSpPr/>
          <p:nvPr/>
        </p:nvSpPr>
        <p:spPr>
          <a:xfrm>
            <a:off x="5429160" y="10350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11"/>
          <p:cNvSpPr/>
          <p:nvPr/>
        </p:nvSpPr>
        <p:spPr>
          <a:xfrm>
            <a:off x="5429160" y="20750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12"/>
          <p:cNvSpPr/>
          <p:nvPr/>
        </p:nvSpPr>
        <p:spPr>
          <a:xfrm>
            <a:off x="6475320" y="35323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13"/>
          <p:cNvSpPr/>
          <p:nvPr/>
        </p:nvSpPr>
        <p:spPr>
          <a:xfrm>
            <a:off x="6796080" y="44686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Picture 2" descr="D:\我的文档-桌面-收藏夹\桌面\1.tif"/>
          <p:cNvPicPr/>
          <p:nvPr/>
        </p:nvPicPr>
        <p:blipFill>
          <a:blip r:embed="rId9"/>
          <a:srcRect l="0" t="6708" r="74995" b="0"/>
          <a:stretch/>
        </p:blipFill>
        <p:spPr>
          <a:xfrm>
            <a:off x="1187280" y="814320"/>
            <a:ext cx="154944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2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文本框 1"/>
          <p:cNvSpPr/>
          <p:nvPr/>
        </p:nvSpPr>
        <p:spPr>
          <a:xfrm>
            <a:off x="3505320" y="1022400"/>
            <a:ext cx="1957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认识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3"/>
          <p:cNvSpPr/>
          <p:nvPr/>
        </p:nvSpPr>
        <p:spPr>
          <a:xfrm>
            <a:off x="509760" y="1608120"/>
            <a:ext cx="812448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的长度就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。在米尺上数一数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里面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，也就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，所以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1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分米是比厘米大，又比米小的长度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文本框 4"/>
          <p:cNvSpPr/>
          <p:nvPr/>
        </p:nvSpPr>
        <p:spPr>
          <a:xfrm>
            <a:off x="684360" y="3262320"/>
            <a:ext cx="6903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米、分米、厘米和毫米之间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组合 25"/>
          <p:cNvGrpSpPr/>
          <p:nvPr/>
        </p:nvGrpSpPr>
        <p:grpSpPr>
          <a:xfrm>
            <a:off x="868320" y="4056120"/>
            <a:ext cx="6049800" cy="2028600"/>
            <a:chOff x="868320" y="4056120"/>
            <a:chExt cx="6049800" cy="2028600"/>
          </a:xfrm>
        </p:grpSpPr>
        <p:sp>
          <p:nvSpPr>
            <p:cNvPr id="1176" name="文本框 6"/>
            <p:cNvSpPr/>
            <p:nvPr/>
          </p:nvSpPr>
          <p:spPr>
            <a:xfrm>
              <a:off x="868320" y="4924080"/>
              <a:ext cx="6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文本框 7"/>
            <p:cNvSpPr/>
            <p:nvPr/>
          </p:nvSpPr>
          <p:spPr>
            <a:xfrm>
              <a:off x="2257200" y="4924080"/>
              <a:ext cx="960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分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文本框 8"/>
            <p:cNvSpPr/>
            <p:nvPr/>
          </p:nvSpPr>
          <p:spPr>
            <a:xfrm>
              <a:off x="4148280" y="4862520"/>
              <a:ext cx="91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厘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文本框 9"/>
            <p:cNvSpPr/>
            <p:nvPr/>
          </p:nvSpPr>
          <p:spPr>
            <a:xfrm>
              <a:off x="5913000" y="4831560"/>
              <a:ext cx="1005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毫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文本框 14"/>
            <p:cNvSpPr/>
            <p:nvPr/>
          </p:nvSpPr>
          <p:spPr>
            <a:xfrm>
              <a:off x="1322280" y="5479200"/>
              <a:ext cx="929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1" name="直接箭头连接符 15"/>
            <p:cNvCxnSpPr/>
            <p:nvPr/>
          </p:nvCxnSpPr>
          <p:spPr>
            <a:xfrm>
              <a:off x="1450440" y="5151600"/>
              <a:ext cx="9298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82" name="直接箭头连接符 16"/>
            <p:cNvCxnSpPr/>
            <p:nvPr/>
          </p:nvCxnSpPr>
          <p:spPr>
            <a:xfrm>
              <a:off x="3075840" y="5151600"/>
              <a:ext cx="9298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83" name="直接箭头连接符 17"/>
            <p:cNvCxnSpPr/>
            <p:nvPr/>
          </p:nvCxnSpPr>
          <p:spPr>
            <a:xfrm>
              <a:off x="4983480" y="5151600"/>
              <a:ext cx="93024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84" name="AutoShape 20"/>
            <p:cNvSpPr/>
            <p:nvPr/>
          </p:nvSpPr>
          <p:spPr>
            <a:xfrm rot="5400000">
              <a:off x="4569840" y="3725640"/>
              <a:ext cx="66600" cy="3569400"/>
            </a:xfrm>
            <a:custGeom>
              <a:avLst/>
              <a:gdLst>
                <a:gd name="textAreaLeft" fmla="*/ 0 w 66600"/>
                <a:gd name="textAreaRight" fmla="*/ 24120 w 66600"/>
                <a:gd name="textAreaTop" fmla="*/ 23040 h 3569400"/>
                <a:gd name="textAreaBottom" fmla="*/ 3546360 h 356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23"/>
                    <a:pt x="10800" y="446"/>
                  </a:cubicBezTo>
                  <a:lnTo>
                    <a:pt x="10800" y="10354"/>
                  </a:lnTo>
                  <a:cubicBezTo>
                    <a:pt x="10800" y="10577"/>
                    <a:pt x="16200" y="10800"/>
                    <a:pt x="21600" y="10800"/>
                  </a:cubicBezTo>
                  <a:cubicBezTo>
                    <a:pt x="16200" y="10800"/>
                    <a:pt x="10800" y="11023"/>
                    <a:pt x="10800" y="11246"/>
                  </a:cubicBezTo>
                  <a:lnTo>
                    <a:pt x="10800" y="21154"/>
                  </a:lnTo>
                  <a:cubicBezTo>
                    <a:pt x="10800" y="2137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19"/>
            <p:cNvSpPr/>
            <p:nvPr/>
          </p:nvSpPr>
          <p:spPr>
            <a:xfrm>
              <a:off x="1518120" y="4721400"/>
              <a:ext cx="7941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文本框 20"/>
            <p:cNvSpPr/>
            <p:nvPr/>
          </p:nvSpPr>
          <p:spPr>
            <a:xfrm>
              <a:off x="3211200" y="4721400"/>
              <a:ext cx="7941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文本框 21"/>
            <p:cNvSpPr/>
            <p:nvPr/>
          </p:nvSpPr>
          <p:spPr>
            <a:xfrm>
              <a:off x="5118480" y="4706280"/>
              <a:ext cx="7941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文本框 22"/>
            <p:cNvSpPr/>
            <p:nvPr/>
          </p:nvSpPr>
          <p:spPr>
            <a:xfrm>
              <a:off x="2380320" y="4056120"/>
              <a:ext cx="7941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AutoShape 20"/>
            <p:cNvSpPr/>
            <p:nvPr/>
          </p:nvSpPr>
          <p:spPr>
            <a:xfrm flipV="1" rot="16200000">
              <a:off x="2800080" y="3169800"/>
              <a:ext cx="126360" cy="3195360"/>
            </a:xfrm>
            <a:custGeom>
              <a:avLst/>
              <a:gdLst>
                <a:gd name="textAreaLeft" fmla="*/ 0 w 126360"/>
                <a:gd name="textAreaRight" fmla="*/ 45720 w 126360"/>
                <a:gd name="textAreaTop" fmla="*/ 43920 h 3195360"/>
                <a:gd name="textAreaBottom" fmla="*/ 3151440 h 31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76"/>
                    <a:pt x="10800" y="952"/>
                  </a:cubicBezTo>
                  <a:lnTo>
                    <a:pt x="10800" y="9848"/>
                  </a:lnTo>
                  <a:cubicBezTo>
                    <a:pt x="10800" y="10324"/>
                    <a:pt x="16200" y="10800"/>
                    <a:pt x="21600" y="10800"/>
                  </a:cubicBezTo>
                  <a:cubicBezTo>
                    <a:pt x="16200" y="10800"/>
                    <a:pt x="10800" y="11276"/>
                    <a:pt x="10800" y="11752"/>
                  </a:cubicBezTo>
                  <a:lnTo>
                    <a:pt x="10800" y="20648"/>
                  </a:lnTo>
                  <a:cubicBezTo>
                    <a:pt x="10800" y="21124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文本框 24"/>
            <p:cNvSpPr/>
            <p:nvPr/>
          </p:nvSpPr>
          <p:spPr>
            <a:xfrm>
              <a:off x="4209120" y="5545800"/>
              <a:ext cx="79452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TextBox 3"/>
          <p:cNvSpPr/>
          <p:nvPr/>
        </p:nvSpPr>
        <p:spPr>
          <a:xfrm>
            <a:off x="2428920" y="2000160"/>
            <a:ext cx="50720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分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毫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厘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4"/>
          <p:cNvSpPr/>
          <p:nvPr/>
        </p:nvSpPr>
        <p:spPr>
          <a:xfrm>
            <a:off x="4071960" y="20937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5"/>
          <p:cNvSpPr/>
          <p:nvPr/>
        </p:nvSpPr>
        <p:spPr>
          <a:xfrm>
            <a:off x="3786120" y="32148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6"/>
          <p:cNvSpPr/>
          <p:nvPr/>
        </p:nvSpPr>
        <p:spPr>
          <a:xfrm>
            <a:off x="4286160" y="43084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6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98" name="椭圆 7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9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7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8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09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1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7" name="文本框 99"/>
          <p:cNvSpPr/>
          <p:nvPr/>
        </p:nvSpPr>
        <p:spPr>
          <a:xfrm>
            <a:off x="519120" y="958680"/>
            <a:ext cx="8136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在括号里填上合适的长度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毫米       厘米         分米         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别针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）       一支铅笔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幢楼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　）       课桌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）       学校操场一圈约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1"/>
          <p:cNvSpPr/>
          <p:nvPr/>
        </p:nvSpPr>
        <p:spPr>
          <a:xfrm>
            <a:off x="2689200" y="2475000"/>
            <a:ext cx="876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3"/>
          <p:cNvSpPr/>
          <p:nvPr/>
        </p:nvSpPr>
        <p:spPr>
          <a:xfrm>
            <a:off x="7508880" y="2475000"/>
            <a:ext cx="874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4"/>
          <p:cNvSpPr/>
          <p:nvPr/>
        </p:nvSpPr>
        <p:spPr>
          <a:xfrm>
            <a:off x="2689200" y="3054240"/>
            <a:ext cx="876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5"/>
          <p:cNvSpPr/>
          <p:nvPr/>
        </p:nvSpPr>
        <p:spPr>
          <a:xfrm>
            <a:off x="6573960" y="3127320"/>
            <a:ext cx="874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6"/>
          <p:cNvSpPr/>
          <p:nvPr/>
        </p:nvSpPr>
        <p:spPr>
          <a:xfrm>
            <a:off x="4421160" y="3757680"/>
            <a:ext cx="5554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4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26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4" name="文本框 99"/>
          <p:cNvSpPr/>
          <p:nvPr/>
        </p:nvSpPr>
        <p:spPr>
          <a:xfrm>
            <a:off x="365040" y="8888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比一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101"/>
          <p:cNvSpPr/>
          <p:nvPr/>
        </p:nvSpPr>
        <p:spPr>
          <a:xfrm>
            <a:off x="441360" y="1533600"/>
            <a:ext cx="7635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　　　　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图片 3" descr=""/>
          <p:cNvPicPr/>
          <p:nvPr/>
        </p:nvPicPr>
        <p:blipFill>
          <a:blip r:embed="rId8"/>
          <a:stretch/>
        </p:blipFill>
        <p:spPr>
          <a:xfrm>
            <a:off x="1519200" y="1755720"/>
            <a:ext cx="387360" cy="417600"/>
          </a:xfrm>
          <a:prstGeom prst="rect">
            <a:avLst/>
          </a:prstGeom>
          <a:ln w="0">
            <a:noFill/>
          </a:ln>
        </p:spPr>
      </p:pic>
      <p:sp>
        <p:nvSpPr>
          <p:cNvPr id="1237" name="文本框 103"/>
          <p:cNvSpPr/>
          <p:nvPr/>
        </p:nvSpPr>
        <p:spPr>
          <a:xfrm>
            <a:off x="441360" y="2620800"/>
            <a:ext cx="7365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　　　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105"/>
          <p:cNvSpPr/>
          <p:nvPr/>
        </p:nvSpPr>
        <p:spPr>
          <a:xfrm>
            <a:off x="441360" y="3854520"/>
            <a:ext cx="8335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毫米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　　　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107"/>
          <p:cNvSpPr/>
          <p:nvPr/>
        </p:nvSpPr>
        <p:spPr>
          <a:xfrm>
            <a:off x="452520" y="5054760"/>
            <a:ext cx="7808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　　　　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图片 6" descr=""/>
          <p:cNvPicPr/>
          <p:nvPr/>
        </p:nvPicPr>
        <p:blipFill>
          <a:blip r:embed="rId9"/>
          <a:stretch/>
        </p:blipFill>
        <p:spPr>
          <a:xfrm>
            <a:off x="2038320" y="2851200"/>
            <a:ext cx="388800" cy="415800"/>
          </a:xfrm>
          <a:prstGeom prst="rect">
            <a:avLst/>
          </a:prstGeom>
          <a:ln w="0">
            <a:noFill/>
          </a:ln>
        </p:spPr>
      </p:pic>
      <p:pic>
        <p:nvPicPr>
          <p:cNvPr id="1241" name="图片 7" descr=""/>
          <p:cNvPicPr/>
          <p:nvPr/>
        </p:nvPicPr>
        <p:blipFill>
          <a:blip r:embed="rId10"/>
          <a:stretch/>
        </p:blipFill>
        <p:spPr>
          <a:xfrm>
            <a:off x="2038320" y="4087800"/>
            <a:ext cx="388800" cy="417600"/>
          </a:xfrm>
          <a:prstGeom prst="rect">
            <a:avLst/>
          </a:prstGeom>
          <a:ln w="0">
            <a:noFill/>
          </a:ln>
        </p:spPr>
      </p:pic>
      <p:pic>
        <p:nvPicPr>
          <p:cNvPr id="1242" name="图片 8" descr=""/>
          <p:cNvPicPr/>
          <p:nvPr/>
        </p:nvPicPr>
        <p:blipFill>
          <a:blip r:embed="rId11"/>
          <a:stretch/>
        </p:blipFill>
        <p:spPr>
          <a:xfrm>
            <a:off x="2109960" y="5270400"/>
            <a:ext cx="388800" cy="416160"/>
          </a:xfrm>
          <a:prstGeom prst="rect">
            <a:avLst/>
          </a:prstGeom>
          <a:ln w="0">
            <a:noFill/>
          </a:ln>
        </p:spPr>
      </p:pic>
      <p:pic>
        <p:nvPicPr>
          <p:cNvPr id="1243" name="图片 9" descr=""/>
          <p:cNvPicPr/>
          <p:nvPr/>
        </p:nvPicPr>
        <p:blipFill>
          <a:blip r:embed="rId12"/>
          <a:stretch/>
        </p:blipFill>
        <p:spPr>
          <a:xfrm>
            <a:off x="6084720" y="1755720"/>
            <a:ext cx="387360" cy="41760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10" descr=""/>
          <p:cNvPicPr/>
          <p:nvPr/>
        </p:nvPicPr>
        <p:blipFill>
          <a:blip r:embed="rId13"/>
          <a:stretch/>
        </p:blipFill>
        <p:spPr>
          <a:xfrm>
            <a:off x="5695920" y="2851200"/>
            <a:ext cx="388800" cy="415800"/>
          </a:xfrm>
          <a:prstGeom prst="rect">
            <a:avLst/>
          </a:prstGeom>
          <a:ln w="0">
            <a:noFill/>
          </a:ln>
        </p:spPr>
      </p:pic>
      <p:pic>
        <p:nvPicPr>
          <p:cNvPr id="1245" name="图片 12" descr=""/>
          <p:cNvPicPr/>
          <p:nvPr/>
        </p:nvPicPr>
        <p:blipFill>
          <a:blip r:embed="rId14"/>
          <a:stretch/>
        </p:blipFill>
        <p:spPr>
          <a:xfrm>
            <a:off x="6173640" y="4087800"/>
            <a:ext cx="387360" cy="417600"/>
          </a:xfrm>
          <a:prstGeom prst="rect">
            <a:avLst/>
          </a:prstGeom>
          <a:ln w="0">
            <a:noFill/>
          </a:ln>
        </p:spPr>
      </p:pic>
      <p:pic>
        <p:nvPicPr>
          <p:cNvPr id="1246" name="图片 14" descr=""/>
          <p:cNvPicPr/>
          <p:nvPr/>
        </p:nvPicPr>
        <p:blipFill>
          <a:blip r:embed="rId15"/>
          <a:stretch/>
        </p:blipFill>
        <p:spPr>
          <a:xfrm>
            <a:off x="6302520" y="5270400"/>
            <a:ext cx="387360" cy="416160"/>
          </a:xfrm>
          <a:prstGeom prst="rect">
            <a:avLst/>
          </a:prstGeom>
          <a:ln w="0">
            <a:noFill/>
          </a:ln>
        </p:spPr>
      </p:pic>
      <p:sp>
        <p:nvSpPr>
          <p:cNvPr id="1247" name="文本框 1"/>
          <p:cNvSpPr/>
          <p:nvPr/>
        </p:nvSpPr>
        <p:spPr>
          <a:xfrm>
            <a:off x="1509840" y="1727280"/>
            <a:ext cx="600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3"/>
          <p:cNvSpPr/>
          <p:nvPr/>
        </p:nvSpPr>
        <p:spPr>
          <a:xfrm>
            <a:off x="2038320" y="2878200"/>
            <a:ext cx="600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4"/>
          <p:cNvSpPr/>
          <p:nvPr/>
        </p:nvSpPr>
        <p:spPr>
          <a:xfrm>
            <a:off x="6086520" y="1784520"/>
            <a:ext cx="3999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5"/>
          <p:cNvSpPr/>
          <p:nvPr/>
        </p:nvSpPr>
        <p:spPr>
          <a:xfrm>
            <a:off x="5695920" y="2878200"/>
            <a:ext cx="600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文本框 6"/>
          <p:cNvSpPr/>
          <p:nvPr/>
        </p:nvSpPr>
        <p:spPr>
          <a:xfrm>
            <a:off x="2038320" y="4087800"/>
            <a:ext cx="399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文本框 7"/>
          <p:cNvSpPr/>
          <p:nvPr/>
        </p:nvSpPr>
        <p:spPr>
          <a:xfrm>
            <a:off x="6173640" y="4114800"/>
            <a:ext cx="60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文本框 8"/>
          <p:cNvSpPr/>
          <p:nvPr/>
        </p:nvSpPr>
        <p:spPr>
          <a:xfrm>
            <a:off x="2109960" y="5270400"/>
            <a:ext cx="599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9"/>
          <p:cNvSpPr/>
          <p:nvPr/>
        </p:nvSpPr>
        <p:spPr>
          <a:xfrm>
            <a:off x="6296040" y="5311800"/>
            <a:ext cx="601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0:28Z</dcterms:created>
  <dc:creator/>
  <dc:description/>
  <dc:language>en-US</dc:language>
  <cp:lastModifiedBy>万润仪器贸易公司</cp:lastModifiedBy>
  <dcterms:modified xsi:type="dcterms:W3CDTF">2020-08-21T01:18:21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